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1FE6-B1D5-4217-AFB8-A20A6B79C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8C19-CB15-456F-8EA3-9D06A8023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CAAE-4BD3-4398-AB9C-DC79ED25B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60B5-F028-45DF-A085-0B5A99FF9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5510-1B51-46F5-9275-94719DCA1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72A5-0EBB-40E3-818C-859C9423A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89DC-51A5-42D7-9BA2-34CA7F3ED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E2E5-D849-46BE-91A9-B633C58C9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4143-7D36-464A-96FE-834C6E779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13BA-ECD2-4DFC-B6A0-8406921DD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EE11-1CFD-4C54-996C-D4A2BC332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9498-BF17-450B-8E04-641EBFDA1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80DE6-6701-447E-8F58-01304AEDD8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2057400"/>
            <a:ext cx="6400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predni kurs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 visokotehnološkom kriminalu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a sudije i tužio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ist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19320" y="457200"/>
            <a:ext cx="679608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dnja policije i tužilašt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zentacija predmeta i preduzetih mera tužioc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jedničke istražne aktiv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radnja se uglavnom odnosi n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utvrđivanje krivičnih dela koja su počinje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istraživanje istražnih m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procena rezultata i odlučivanje o daljoj pretrazi, hapšenju, i saslušanju osumnjičeni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dentifikacija osumnjičeni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ikacija i lokacija osumnjičenih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Utvrđivanje) Drugih adresa koje koristi osumnjičen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kacija kompjutera sa koga su izvršena krivična del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rišćena internet veza (kablovska, bežična, ISP, itd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nanje i umešanost u kriminalne aktivnost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radnja s drugim osumnjičenima i njihova umešanos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nsijska istra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rišćenje detaljnih podataka o pretplatni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za sa drugim osumnjičenima ili drugim kriminalnim istrag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daci iz policijske baze podataka i sa interneta mogu se koristiti kao izvor informac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dnja sa ostalim organima vla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radnja treba da bude usredsređena n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zmena informacija o činjenicama, licima, operativni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odima i vezama u istraz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kupljanje podataka i dokaz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užanje logističke podrške za obavljanje određenih aktiv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jalizovana pomoć za tehnička, finansijska i druga pit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na aktivnosti i sprovođenje pretrage, izvršenje hapšenja i obavljanje sasluš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 procene treba da se odnosi na sledeć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kako su sve te aktivnosti obavlj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da li su poštovane donete odluke i utvrđeni kora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da li su pribavljeni dokazi dovoljni za donošenje odlu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da li su poštovane zakonske procedure i odred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 li su istraženi svi aspek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 li su izdavani nalozi za preduzimanje dodatnih istražnih m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 li je kriminalna aktivnost prekinuta, a ako nije, kakve su njene posled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eba slediti zakonske odredbe i utvrđene postup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premiti ljudstvo za obavljanje aktiv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premiti dokumente iz spisa predme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na istrage da bi se identifikovale izvučen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uke i dobra praksa i da bi se to dalje širi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na predme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zitivne str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gativne str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Širenje dobijenih pouka i najbolje prak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li saveti i dosetke u vezi sa scenarijem kur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 li su jasni osnovni elementi  DDOS napad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 ste istražitelj koji treba da istražuje danas i su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tragu u grupi mogu voditi jedno ili dva l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išite tip krivičnog dela prema važećim domaćim zakon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brojte koja vrsta zakonskih ovlašćenja može biti od koristi za ovakav vid krivičnog de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brojte sve što znate i šta nedost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vedite vrstu podataka koju možete da dobijete onlajn, kao i one podatke koje možete da dobijete oflaj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ktori su ovde i oni koji daju podatke i žrtve (oštećena lica); oni mogu da daju podatke ako se to od njih zatraži (zatražiti na ceduljic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 može se udovoljiti svakom zahtevu niti će svaki trud uroditi plod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zmišljajte o detaljima i razmišljajte o celokupnom postup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ba uložiti mnogo napora u isto vr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risno je razmišljati kao kriminal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ba identifikovati kriminalca/kriminal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i se vaše aktivno učešće u grupi na zadatku identifikaci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42670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i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009960" y="800280"/>
            <a:ext cx="293364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371600" y="1904760"/>
            <a:ext cx="64008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jem i procena prij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voljno podataka za pokretanje ist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javljene činjenice smatraju se krivičnim del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java (pritužba) upućena nadležnom orga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držaj prija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držaj prij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daci na osnovu kojih se može identifikovati žrt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tak opis prijavljenih činjen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šteta, objašnjenje i osn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kacija kompjuterskih sistema žrtve, tehnička lica odgovorna za održavanje tih sistema koja mogu da pruže informacije o nj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era i kontrola koju je obavila žrt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cije o osumnjičenima i moguća komunikacija s nj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redstva i izvor komunika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zvor kriminalne aktiv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nsijski instrumenti koji su korišće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vedo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ateći dokaz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dentifikacija krivičnog de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 nadležni za istrag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čini prikupljanja doka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redstva za istrag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menti međunarodne sarad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relacija između prijavljenih aktivnosti i veličine št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kupljanje i procena dokaza, informacija i obaveštajnih podata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Žrtve, svedoci, policijske baze podataka, otvoreni izvori trećih l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menti i lokac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lj: razjasniti prijavljene činjenice, identifikovati osumnjičene i mesta na kojima se odvijala kriminalna aktivnost, utvrditi prirodu i vrednost gubitak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aviti procenu rizika i identifikovati potrebu za dodatnom podršk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avljeno zajedno sa žrtvom (oštećenim lic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tencijalni rizici: moguće posledice po žrtvu, računarske sisteme ili drugu komercijalnu robu i inter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ikovati mere zašt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Žrtva ostaje u kontaktu sa osumnjičen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drška od stručnjaka za računarsku forenziku ili trećeg l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zik treba stalno procenjivati i održavati kontakt sa žrtv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aštita mesta  na kome se delo dogodil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očuvanje doka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ni i fizički dokaz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ni dokazi se čuvaju u ograničenom ro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kacija i mere za prikupljanje digitalnih doka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zvori: kompjuter/server korišćen za kriminalne aktivnosti, kompjuter oštećenog lica, drugi kompjuter/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htev za zašti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munikacione poru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ikacija žrtve (jedne ili više njih) i svedoka i saradnja sa nj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datne žrt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dnete prijave i dostavljene informacije i dokaz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vedoci mogu imati važnu ulog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konski zahtevi i postupak sa žrtvama i svedoc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radnja sa žrtvama treba da bude kontinuirani proces kroz koji se dobijaju povratne informacije i pruža pomo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tvrđivanje koraka i aktivnosti koje treba preduze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amo se usredsrediti n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ne samo na nove, već i na tradicionalne met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utvrđivanje činjenica o kriminalnoj aktivnosti i njeno obustavlj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identifikacija osumnjičenih i proglašenje njihove kri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naknada št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rečavanje daljih kriminalnih aktivnosti i gubita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vrđivanje prioriteta među aktivnost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tražiteljski t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za s drugim slučajev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radnja s drugim odeljenj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prema spisa predme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2T07:46:22Z</dcterms:created>
  <dc:creator>Master</dc:creator>
  <dc:description/>
  <dc:language>en-US</dc:language>
  <cp:lastModifiedBy>Master</cp:lastModifiedBy>
  <dcterms:modified xsi:type="dcterms:W3CDTF">2013-09-12T08:07:24Z</dcterms:modified>
  <cp:revision>4</cp:revision>
  <dc:subject/>
  <dc:title>Slide 1</dc:title>
</cp:coreProperties>
</file>